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575-9396-4036-BA4D-B3A6D8A5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F5F0-1F3C-41A6-83DE-520BC486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610-37F5-4883-A143-58083259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78C-A994-4186-9655-0D1ACDF6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602-83A5-4924-84F7-C4984AEE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525-9B70-46B3-8A2B-17659929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EBA-51C7-4D60-8815-8E5AD566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FC5-334A-46A3-B426-AF852762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DD3-74F0-484E-A78D-E6F70BCF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CA0-C5B3-41DA-8A8A-FD2FB862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1FC-928D-4554-B453-E9DF57F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5CE0-D3A6-40D0-BCAC-083149C0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7E0-F757-4A44-AF1B-36A0BE6915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971800" y="3733920"/>
            <a:ext cx="3809880" cy="388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152280" y="3733920"/>
            <a:ext cx="274320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33200"/>
            <a:ext cx="655344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35053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arry S. Truma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@HSTRUMAN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STRUMAN was the 33rd President of the United States. The final running mate of President Franklin D. Roosevelt in 1944, Truman succeeded to the presidency on April 12, 1945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23920" cy="1434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424840" y="250920"/>
            <a:ext cx="12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3,183 Tw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83 Fo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00,567 Follow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52280" y="198108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Biography2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al background of your delegate (Birth, Education, Profession – Private/Public , Political Party,  Military Exper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ir role at the 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as their view on the topic of re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   What was their view on the topic of the execu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    How geography effects your delegate (where they live, how they make a liv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3795840"/>
            <a:ext cx="2590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3 Sample Follo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ben Barkely - @AlB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Vice President under H.S. Trum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oseph Grew – @JoeGrew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State for FDR &amp; Truman (194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ames Vincent Forrestal - @James4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Def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228600" y="3581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2"/>
          <p:cNvSpPr/>
          <p:nvPr/>
        </p:nvSpPr>
        <p:spPr>
          <a:xfrm>
            <a:off x="304920" y="3657600"/>
            <a:ext cx="635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52280" y="6046920"/>
            <a:ext cx="714600" cy="97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7080" y="6046920"/>
            <a:ext cx="80316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057400" y="6046920"/>
            <a:ext cx="838080" cy="971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548160" y="6168960"/>
            <a:ext cx="3071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Boys, if you ever pray, pray for me now. I don't know if you fellas ever had a load of hay fall on you, but when they told me what happened yesterday, I felt like the moon, the stars, and all the planets had fallen on 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3157560" y="6172200"/>
            <a:ext cx="35712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6"/>
          <a:stretch/>
        </p:blipFill>
        <p:spPr>
          <a:xfrm>
            <a:off x="3146400" y="39654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622680" y="5137200"/>
            <a:ext cx="2967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Spending time in Potsdam with @JoeStalin, @clementAttlee.  You boys haven’t seen anything like this bef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7"/>
          <a:stretch/>
        </p:blipFill>
        <p:spPr>
          <a:xfrm>
            <a:off x="3143160" y="51372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3622680" y="3979800"/>
            <a:ext cx="2362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@</a:t>
            </a:r>
            <a:r>
              <a:rPr b="0" lang="en-US" sz="1100" spc="-1" strike="noStrike">
                <a:solidFill>
                  <a:srgbClr val="1f497d"/>
                </a:solidFill>
                <a:latin typeface="Calibri"/>
                <a:ea typeface="Arial"/>
              </a:rPr>
              <a:t>JoeStal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:  Russians do not like surprises…I have an “idea” of what your developing.  @HSTRUM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15920" y="725004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imilar to Harry S. Tr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8"/>
          <a:stretch/>
        </p:blipFill>
        <p:spPr>
          <a:xfrm>
            <a:off x="171360" y="7554960"/>
            <a:ext cx="676440" cy="67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870840" y="7753320"/>
            <a:ext cx="18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Paul Tibbets @PaulEnolaG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0:02:15Z</dcterms:created>
  <dc:creator>holzhauserj</dc:creator>
  <dc:description/>
  <dc:language>en-US</dc:language>
  <cp:lastModifiedBy>Holzhauser, Jacob</cp:lastModifiedBy>
  <cp:lastPrinted>2012-11-28T01:28:29Z</cp:lastPrinted>
  <dcterms:modified xsi:type="dcterms:W3CDTF">2014-11-12T13:49:21Z</dcterms:modified>
  <cp:revision>15</cp:revision>
  <dc:subject/>
  <dc:title>Harry S. Truman @HSTRUMAN  HSTRUMAN was the 33rd President of the United States. The final running mate of President Franklin D. Roosevelt in 1944, Truman succeeded to the presidency on April 12, 1945.</dc:title>
</cp:coreProperties>
</file>